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C43-FD7C-4696-A50E-9F237193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F1A2-D2C5-49B3-ADE4-8A0D2049F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776-3F62-4F6F-B1B3-852B9C262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011B-AC98-451D-B942-FF14AE54E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E466-340C-4A29-9529-786140F7EE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40C9-70DF-46C1-9AC5-989C2EEB6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746D-B4B0-4578-A23D-82C0270292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95F-4800-4DE7-A79A-84B2DAC1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8AB-68DF-4EB2-9F2F-55BBFA1A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06B-E0D7-4AD5-9D1C-0F18C15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A64-5C0E-4A05-BD10-DCF0033A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52D-FDC0-4E73-83CA-4B14670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907-42EF-4388-A68F-4D922FE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B73-7978-4F27-81C5-22F7641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729-6633-4FF0-B02C-F0D8B77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1BB-99C1-461B-8823-DC4C003A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798-707D-4D2C-81A4-45980A7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C10-C9E3-49AD-B8D0-6C12A68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71E-5A2E-4E30-B3FF-8398ADE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B6F-3338-418C-8ADC-292725EBD8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APHIN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dinate- values on the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scissa- values on the 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pendent variable- ______variable, the one we measure, plotted on the____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dependent variable- _________ variable, the one we control or vary, plotted on the _______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rs. Watson’s Eight Commandments of Grap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Always use ______for the entire grap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Use an appropriate _____ for each axis. (It can be different on the x and y but must have equal ____________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 Label each axis with variable _____ and _______. (ex. Time (s) 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Include a _____ in the form: “The relationship betwe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dependen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dependent variab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’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. _______ all plotted poi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. If more than one set of data is on the graph, use a ______ or _______ to differentiate the data ( you can use dashed or solid lines,or circles, squares,and triangles on your plotted points,or different colo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pencil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. Be neat!!! Use _______ and make graphs large - never more than __ to a p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. Include your _____ and _____ on each graph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itional Inform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ways draw “best - fit” lines or curves for your data unless you are told to “connect the dots”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y to determine the type of relationship you are graphing so you know whether it should be a straight or curved li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3:17:26Z</dcterms:created>
  <dc:creator>School District 17</dc:creator>
  <dc:description/>
  <dc:language>en-US</dc:language>
  <cp:lastModifiedBy>Administrator</cp:lastModifiedBy>
  <dcterms:modified xsi:type="dcterms:W3CDTF">2010-09-04T19:10:09Z</dcterms:modified>
  <cp:revision>3</cp:revision>
  <dc:subject/>
  <dc:title>GRAPHING</dc:title>
</cp:coreProperties>
</file>